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07529-D6B3-4504-869C-5DA47FB58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55A47-161B-453A-B606-68B15AC9EB4C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alance the atoms in the formula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we place a coefficient of 3 in front of 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nd a coefficient of 4 in front of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.  The total O in the products is 10 O (6 O in 3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nd 4 O in 4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).  To balance the 10 O, a coefficient of 5 is placed in front of the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16268-72A4-4355-B0EA-11935C8DA1AC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bon has a subscript 7, which means we need to place a coefficient of 7 in front of 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 The H subscript 16 is balanced by placing a coefficient of 8 in front of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.  Finally, the total O of 22 ( 14 + 8) indicates that a coefficient of 11 in front of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will balance the O 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29027-28C3-4586-AE46-31E9373EC92A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ethane, C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four valence electrons of carbon are shared with the single electrons of four hydrogen (H) atoms.  Each pair of electrons is a single bond, which can be drawn as a line.  When a structure is drawn to show each bond, it is called a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mplete structural formu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F9B35-C344-45A3-84A9-509E3AFEF1E7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plete structural formula for ethane shows the single bonds between two carbon atoms and six H atoms.  The complete structural formula of propane shows the 3-carbon chain with single bonds to the attached H atoms.  To write a condensed structural formula, the H atoms are written as a group next to their respective C atom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6404B-0A5F-4B11-890F-DA4B84DF6545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ames of organic compounds are determined by the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UPAC rules (International Union of Pure and Applied Chemistry)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em of the name states the number of carbon atoms in the carbon chain of the compounds.  The suffix, in this case –ane, indicates the alkane fami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3662-FB45-4BF4-85F5-3691F3EE2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44C0-C58F-49B6-A2B2-B8BC46AE8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4403-1A51-4A55-B34A-CFE1B977F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02AB-98B7-482C-87EC-5A6B8AD92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B82E-F141-49D4-912D-0B85FAE9C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D7A3-0535-43D9-8D7A-A6079B75A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6293-7487-4851-8C4E-EBD243CB7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6567-C30F-47D0-8E25-2245044B4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FDEF-E015-43FB-9AF4-9F6BA83C7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C944-FD14-4046-99F0-A8E8F9B2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40D1-F101-4FE3-9574-653A253D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679D-0642-43E6-B52E-1F5021CF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Timberlake LecturePL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E249-5A0D-4621-84A0-7E31FDE1061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Timberlake LecturePLUS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026A7-D0DE-4318-9CBD-EDA727855AE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lkanes and Aromatic Hydrocarbo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rganic Compound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onding in Hydrocarbo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Naming Alkan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operties of Alkan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Timberlake LecturePLUS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6D51B-6E29-426F-8E4B-B9C79832FD7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Alk1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9900"/>
                </a:solidFill>
                <a:latin typeface="Arial"/>
              </a:rPr>
              <a:t>A.</a:t>
            </a:r>
            <a:r>
              <a:rPr b="1" lang="en-US" sz="3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9900"/>
                </a:solidFill>
                <a:latin typeface="Arial"/>
              </a:rPr>
              <a:t>CH</a:t>
            </a:r>
            <a:r>
              <a:rPr b="1" lang="en-US" sz="34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3400" spc="-1" strike="noStrike">
                <a:solidFill>
                  <a:srgbClr val="ff9900"/>
                </a:solidFill>
                <a:latin typeface="Arial"/>
              </a:rPr>
              <a:t>CH</a:t>
            </a:r>
            <a:r>
              <a:rPr b="1" lang="en-US" sz="34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3400" spc="-1" strike="noStrike">
                <a:solidFill>
                  <a:srgbClr val="ff9900"/>
                </a:solidFill>
                <a:latin typeface="Arial"/>
              </a:rPr>
              <a:t>CH</a:t>
            </a:r>
            <a:r>
              <a:rPr b="1" lang="en-US" sz="34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3400" spc="-1" strike="noStrike">
                <a:solidFill>
                  <a:srgbClr val="ff9900"/>
                </a:solidFill>
                <a:latin typeface="Arial"/>
              </a:rPr>
              <a:t>CH</a:t>
            </a:r>
            <a:r>
              <a:rPr b="1" lang="en-US" sz="34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9900"/>
                </a:solidFill>
                <a:latin typeface="Arial"/>
              </a:rPr>
              <a:t>B.  </a:t>
            </a:r>
            <a:r>
              <a:rPr b="1" lang="en-US" sz="3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9900"/>
                </a:solidFill>
                <a:latin typeface="Arial"/>
              </a:rPr>
              <a:t>C</a:t>
            </a:r>
            <a:r>
              <a:rPr b="1" lang="en-US" sz="3400" spc="-1" strike="noStrike" baseline="-25000">
                <a:solidFill>
                  <a:srgbClr val="ff9900"/>
                </a:solidFill>
                <a:latin typeface="Arial"/>
              </a:rPr>
              <a:t>4</a:t>
            </a:r>
            <a:r>
              <a:rPr b="1" lang="en-US" sz="3400" spc="-1" strike="noStrike">
                <a:solidFill>
                  <a:srgbClr val="ff9900"/>
                </a:solidFill>
                <a:latin typeface="Arial"/>
              </a:rPr>
              <a:t>H</a:t>
            </a:r>
            <a:r>
              <a:rPr b="1" lang="en-US" sz="3400" spc="-1" strike="noStrike" baseline="-25000">
                <a:solidFill>
                  <a:srgbClr val="ff9900"/>
                </a:solidFill>
                <a:latin typeface="Arial"/>
              </a:rPr>
              <a:t>10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9900"/>
                </a:solidFill>
                <a:latin typeface="Arial"/>
              </a:rPr>
              <a:t>C.</a:t>
            </a:r>
            <a:r>
              <a:rPr b="1" lang="en-US" sz="3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9900"/>
                </a:solidFill>
                <a:latin typeface="Arial"/>
              </a:rPr>
              <a:t>butane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Timberlake LecturePLUS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79092-4401-4A36-8389-E7E2612F9C9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eactions of Alkan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mbustion 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lkane + O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CO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+ 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 +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he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Rectangle 27"/>
          <p:cNvSpPr/>
          <p:nvPr/>
        </p:nvSpPr>
        <p:spPr>
          <a:xfrm>
            <a:off x="1600200" y="205740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Line 28"/>
          <p:cNvSpPr/>
          <p:nvPr/>
        </p:nvSpPr>
        <p:spPr>
          <a:xfrm>
            <a:off x="3505320" y="4800600"/>
            <a:ext cx="609480" cy="0"/>
          </a:xfrm>
          <a:prstGeom prst="line">
            <a:avLst/>
          </a:prstGeom>
          <a:ln cap="sq"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4" name="Picture 34" descr="C:\Program Files\Microsoft Office\Clipart\standard\stddir4\sy00773_.wmf"/>
          <p:cNvPicPr/>
          <p:nvPr/>
        </p:nvPicPr>
        <p:blipFill>
          <a:blip r:embed="rId1"/>
          <a:stretch/>
        </p:blipFill>
        <p:spPr>
          <a:xfrm>
            <a:off x="6400800" y="1981080"/>
            <a:ext cx="1704960" cy="242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Timberlake LecturePLUS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A00D6-685D-4AA6-891B-2CCDE0B5B8D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mbustion In the Cell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Metabolic oxidation is combustion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6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12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6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+ 6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   6C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+ 6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 + 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heat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    </a:t>
            </a:r>
            <a:r>
              <a:rPr b="1" lang="en-US" sz="2600" spc="-1" strike="noStrike">
                <a:solidFill>
                  <a:srgbClr val="66ff33"/>
                </a:solidFill>
                <a:latin typeface="Arial"/>
              </a:rPr>
              <a:t>glucose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Line 5"/>
          <p:cNvSpPr/>
          <p:nvPr/>
        </p:nvSpPr>
        <p:spPr>
          <a:xfrm>
            <a:off x="3809880" y="2971800"/>
            <a:ext cx="68580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Timberlake LecturePLUS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8EA07-A25C-49F9-8B5B-8EEEE90423D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Alk2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mplete the combustion reaction fo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8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+ O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           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+         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Balance your equa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Line 16"/>
          <p:cNvSpPr/>
          <p:nvPr/>
        </p:nvSpPr>
        <p:spPr>
          <a:xfrm>
            <a:off x="3733920" y="3124080"/>
            <a:ext cx="914400" cy="0"/>
          </a:xfrm>
          <a:prstGeom prst="line">
            <a:avLst/>
          </a:prstGeom>
          <a:ln cap="sq"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Rectangle 17"/>
          <p:cNvSpPr/>
          <p:nvPr/>
        </p:nvSpPr>
        <p:spPr>
          <a:xfrm>
            <a:off x="4876920" y="2895480"/>
            <a:ext cx="1295280" cy="914400"/>
          </a:xfrm>
          <a:prstGeom prst="rect">
            <a:avLst/>
          </a:prstGeom>
          <a:noFill/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Rectangle 18"/>
          <p:cNvSpPr/>
          <p:nvPr/>
        </p:nvSpPr>
        <p:spPr>
          <a:xfrm>
            <a:off x="7315200" y="2895480"/>
            <a:ext cx="1295280" cy="914400"/>
          </a:xfrm>
          <a:prstGeom prst="rect">
            <a:avLst/>
          </a:prstGeom>
          <a:noFill/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Line 19"/>
          <p:cNvSpPr/>
          <p:nvPr/>
        </p:nvSpPr>
        <p:spPr>
          <a:xfrm>
            <a:off x="914400" y="5638680"/>
            <a:ext cx="7391520" cy="0"/>
          </a:xfrm>
          <a:prstGeom prst="line">
            <a:avLst/>
          </a:prstGeom>
          <a:ln cap="sq"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8" name="Object 20" descr=""/>
          <p:cNvPicPr/>
          <p:nvPr/>
        </p:nvPicPr>
        <p:blipFill>
          <a:blip r:embed="rId1"/>
          <a:stretch/>
        </p:blipFill>
        <p:spPr>
          <a:xfrm>
            <a:off x="6858000" y="609480"/>
            <a:ext cx="175428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Timberlake LecturePLUS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076CE-CAC7-4770-B250-1E7EAAB3F44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Alk2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Step 1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8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+ O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 CO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+ 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Step 2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8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+ O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 3 CO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+ 4 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Step 3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8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+ 5 O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 3 CO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+  4 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Line 7"/>
          <p:cNvSpPr/>
          <p:nvPr/>
        </p:nvSpPr>
        <p:spPr>
          <a:xfrm>
            <a:off x="3048120" y="3048120"/>
            <a:ext cx="838080" cy="0"/>
          </a:xfrm>
          <a:prstGeom prst="line">
            <a:avLst/>
          </a:prstGeom>
          <a:ln cap="sq"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Line 8"/>
          <p:cNvSpPr/>
          <p:nvPr/>
        </p:nvSpPr>
        <p:spPr>
          <a:xfrm>
            <a:off x="3048120" y="4495680"/>
            <a:ext cx="838080" cy="0"/>
          </a:xfrm>
          <a:prstGeom prst="line">
            <a:avLst/>
          </a:prstGeom>
          <a:ln cap="sq"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Line 9"/>
          <p:cNvSpPr/>
          <p:nvPr/>
        </p:nvSpPr>
        <p:spPr>
          <a:xfrm>
            <a:off x="3352680" y="5943600"/>
            <a:ext cx="838440" cy="0"/>
          </a:xfrm>
          <a:prstGeom prst="line">
            <a:avLst/>
          </a:prstGeom>
          <a:ln cap="sq"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6" name="Object 10" descr=""/>
          <p:cNvPicPr/>
          <p:nvPr/>
        </p:nvPicPr>
        <p:blipFill>
          <a:blip r:embed="rId1"/>
          <a:stretch/>
        </p:blipFill>
        <p:spPr>
          <a:xfrm>
            <a:off x="6705720" y="1447920"/>
            <a:ext cx="175392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Timberlake LecturePLUS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47639-48B2-4455-86C1-EECB36EB029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Alk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mplete and balance the reaction for the complete combustion of  C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7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Line 7"/>
          <p:cNvSpPr/>
          <p:nvPr/>
        </p:nvSpPr>
        <p:spPr>
          <a:xfrm>
            <a:off x="685800" y="5486400"/>
            <a:ext cx="7772400" cy="0"/>
          </a:xfrm>
          <a:prstGeom prst="line">
            <a:avLst/>
          </a:prstGeom>
          <a:ln cap="sq"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Timberlake LecturePLUS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28AA2-C382-47BA-B2B0-7F91B153F61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Alk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Step 1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7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16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+ O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  CO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+  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Step 2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7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16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+ O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  7 CO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+ 8 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Step 3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7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16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+ 11 O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 7 CO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+ 8 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Line 7"/>
          <p:cNvSpPr/>
          <p:nvPr/>
        </p:nvSpPr>
        <p:spPr>
          <a:xfrm>
            <a:off x="2895480" y="2971800"/>
            <a:ext cx="914400" cy="0"/>
          </a:xfrm>
          <a:prstGeom prst="line">
            <a:avLst/>
          </a:prstGeom>
          <a:ln cap="sq"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Line 8"/>
          <p:cNvSpPr/>
          <p:nvPr/>
        </p:nvSpPr>
        <p:spPr>
          <a:xfrm>
            <a:off x="2895480" y="4419720"/>
            <a:ext cx="914400" cy="0"/>
          </a:xfrm>
          <a:prstGeom prst="line">
            <a:avLst/>
          </a:prstGeom>
          <a:ln cap="sq"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Line 9"/>
          <p:cNvSpPr/>
          <p:nvPr/>
        </p:nvSpPr>
        <p:spPr>
          <a:xfrm>
            <a:off x="3352680" y="5867280"/>
            <a:ext cx="914400" cy="0"/>
          </a:xfrm>
          <a:prstGeom prst="line">
            <a:avLst/>
          </a:prstGeom>
          <a:ln cap="sq"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Timberlake LecturePLUS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0F9B-DFF5-42E6-B868-54FAF57F09E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he most important hypothesis in all of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biology…is that everything that animals do,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atoms do. In other words, there is nothing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hat living things do that cannot be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understood from the point of view that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hey are made of atoms acting according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o the laws of physics.” 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Richard Feynman (1918-1988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Timberlake LecturePLUS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9C770-2AD0-4CA9-86AF-F7859F2EC90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rganic Compounds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66ff33"/>
              </a:buClr>
              <a:buSzPct val="8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ntain carbon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66ff33"/>
              </a:buClr>
              <a:buSzPct val="8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ave covalent bond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66ff33"/>
              </a:buClr>
              <a:buSzPct val="8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ave low melting point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66ff33"/>
              </a:buClr>
              <a:buSzPct val="8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ave low boiling point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66ff33"/>
              </a:buClr>
              <a:buSzPct val="8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urn in air (oxygen)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66ff33"/>
              </a:buClr>
              <a:buSzPct val="8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re soluble in nonpolar solvent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66ff33"/>
              </a:buClr>
              <a:buSzPct val="8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orm large molecule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0" name="Picture 5" descr="C:\Program Files\Microsoft Office\Clipart\standard\stddir4\pe02281_.wmf"/>
          <p:cNvPicPr/>
          <p:nvPr/>
        </p:nvPicPr>
        <p:blipFill>
          <a:blip r:embed="rId1"/>
          <a:stretch/>
        </p:blipFill>
        <p:spPr>
          <a:xfrm>
            <a:off x="5638680" y="1938240"/>
            <a:ext cx="2438640" cy="23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7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Timberlake LecturePLUS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F6AEA-2D64-46D6-90D2-B516E95F093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lkan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2666880"/>
            <a:ext cx="838224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66ff33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ntain C and H onl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66ff33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ntain single bonds  C-C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66ff33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ave 4 bonds to every carbon (C) ato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66ff33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re nonpola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5" name="Picture 13" descr="C:\Program Files\Microsoft Office\Clipart\standard\stddir3\in00711_.wmf"/>
          <p:cNvPicPr/>
          <p:nvPr/>
        </p:nvPicPr>
        <p:blipFill>
          <a:blip r:embed="rId1"/>
          <a:stretch/>
        </p:blipFill>
        <p:spPr>
          <a:xfrm>
            <a:off x="5181480" y="1138320"/>
            <a:ext cx="3962520" cy="230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Timberlake LecturePLUS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C60A9-2C7B-4F36-805F-E74C6E01F87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mplete Structural Formula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how the bonds between each of the atoms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H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 </a:t>
            </a:r>
            <a:r>
              <a:rPr b="1" lang="en-US" sz="5000" spc="-1" strike="noStrike">
                <a:solidFill>
                  <a:srgbClr val="ffff00"/>
                </a:solidFill>
                <a:latin typeface="Symbol"/>
                <a:ea typeface="Symbol"/>
              </a:rPr>
              <a:t>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C </a:t>
            </a:r>
            <a:r>
              <a:rPr b="1" lang="en-US" sz="5000" spc="-1" strike="noStrike">
                <a:solidFill>
                  <a:srgbClr val="ffff00"/>
                </a:solidFill>
                <a:latin typeface="Symbol"/>
                <a:ea typeface="Symbol"/>
              </a:rPr>
              <a:t>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H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    C    H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          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H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CH</a:t>
            </a:r>
            <a:r>
              <a:rPr b="1" lang="en-US" sz="3200" spc="-1" strike="noStrike" baseline="-25000">
                <a:solidFill>
                  <a:srgbClr val="66ff33"/>
                </a:solidFill>
                <a:latin typeface="Arial"/>
              </a:rPr>
              <a:t>4 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, methan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Line 13"/>
          <p:cNvSpPr/>
          <p:nvPr/>
        </p:nvSpPr>
        <p:spPr>
          <a:xfrm>
            <a:off x="4613400" y="4281480"/>
            <a:ext cx="3808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Line 14"/>
          <p:cNvSpPr/>
          <p:nvPr/>
        </p:nvSpPr>
        <p:spPr>
          <a:xfrm>
            <a:off x="5334120" y="4262400"/>
            <a:ext cx="3808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Line 16"/>
          <p:cNvSpPr/>
          <p:nvPr/>
        </p:nvSpPr>
        <p:spPr>
          <a:xfrm>
            <a:off x="5181480" y="3657600"/>
            <a:ext cx="0" cy="457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Line 17"/>
          <p:cNvSpPr/>
          <p:nvPr/>
        </p:nvSpPr>
        <p:spPr>
          <a:xfrm>
            <a:off x="5187960" y="4572000"/>
            <a:ext cx="0" cy="457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Timberlake LecturePLUS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3EED7-E615-45F9-AE1F-86E0DFD46D6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ore Alkan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     H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66cc"/>
                </a:solidFill>
                <a:latin typeface="Arial"/>
              </a:rPr>
              <a:t>Condensed Structural Formula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lvl="4" marL="2016000" indent="0">
              <a:lnSpc>
                <a:spcPct val="30000"/>
              </a:lnSpc>
              <a:spcBef>
                <a:spcPts val="47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    C     C    H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C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     H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Ethan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    H    H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     C    C    C    H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C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C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     H    H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Propan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Line 4"/>
          <p:cNvSpPr/>
          <p:nvPr/>
        </p:nvSpPr>
        <p:spPr>
          <a:xfrm>
            <a:off x="755640" y="2819520"/>
            <a:ext cx="3808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Line 5"/>
          <p:cNvSpPr/>
          <p:nvPr/>
        </p:nvSpPr>
        <p:spPr>
          <a:xfrm>
            <a:off x="1517760" y="2819520"/>
            <a:ext cx="3808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Line 6"/>
          <p:cNvSpPr/>
          <p:nvPr/>
        </p:nvSpPr>
        <p:spPr>
          <a:xfrm>
            <a:off x="2279520" y="2819520"/>
            <a:ext cx="38124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Line 7"/>
          <p:cNvSpPr/>
          <p:nvPr/>
        </p:nvSpPr>
        <p:spPr>
          <a:xfrm>
            <a:off x="5715000" y="2876400"/>
            <a:ext cx="3808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Line 8"/>
          <p:cNvSpPr/>
          <p:nvPr/>
        </p:nvSpPr>
        <p:spPr>
          <a:xfrm>
            <a:off x="817560" y="5424480"/>
            <a:ext cx="3808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Line 9"/>
          <p:cNvSpPr/>
          <p:nvPr/>
        </p:nvSpPr>
        <p:spPr>
          <a:xfrm>
            <a:off x="1573200" y="5424480"/>
            <a:ext cx="3808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Line 10"/>
          <p:cNvSpPr/>
          <p:nvPr/>
        </p:nvSpPr>
        <p:spPr>
          <a:xfrm>
            <a:off x="2293920" y="5424480"/>
            <a:ext cx="3808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Line 11"/>
          <p:cNvSpPr/>
          <p:nvPr/>
        </p:nvSpPr>
        <p:spPr>
          <a:xfrm>
            <a:off x="3027240" y="5424480"/>
            <a:ext cx="38124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Line 12"/>
          <p:cNvSpPr/>
          <p:nvPr/>
        </p:nvSpPr>
        <p:spPr>
          <a:xfrm>
            <a:off x="5638680" y="5410080"/>
            <a:ext cx="38124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Line 13"/>
          <p:cNvSpPr/>
          <p:nvPr/>
        </p:nvSpPr>
        <p:spPr>
          <a:xfrm>
            <a:off x="6664320" y="5410080"/>
            <a:ext cx="3808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Line 14"/>
          <p:cNvSpPr/>
          <p:nvPr/>
        </p:nvSpPr>
        <p:spPr>
          <a:xfrm>
            <a:off x="1311120" y="233028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Line 15"/>
          <p:cNvSpPr/>
          <p:nvPr/>
        </p:nvSpPr>
        <p:spPr>
          <a:xfrm>
            <a:off x="2116080" y="238428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Line 16"/>
          <p:cNvSpPr/>
          <p:nvPr/>
        </p:nvSpPr>
        <p:spPr>
          <a:xfrm>
            <a:off x="2116080" y="3048120"/>
            <a:ext cx="0" cy="380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Line 17"/>
          <p:cNvSpPr/>
          <p:nvPr/>
        </p:nvSpPr>
        <p:spPr>
          <a:xfrm>
            <a:off x="1317600" y="3048120"/>
            <a:ext cx="0" cy="380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Line 18"/>
          <p:cNvSpPr/>
          <p:nvPr/>
        </p:nvSpPr>
        <p:spPr>
          <a:xfrm>
            <a:off x="1371600" y="4729320"/>
            <a:ext cx="0" cy="380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Line 19"/>
          <p:cNvSpPr/>
          <p:nvPr/>
        </p:nvSpPr>
        <p:spPr>
          <a:xfrm>
            <a:off x="2133720" y="472428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Line 20"/>
          <p:cNvSpPr/>
          <p:nvPr/>
        </p:nvSpPr>
        <p:spPr>
          <a:xfrm>
            <a:off x="2795760" y="472428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Line 21"/>
          <p:cNvSpPr/>
          <p:nvPr/>
        </p:nvSpPr>
        <p:spPr>
          <a:xfrm>
            <a:off x="2781360" y="563868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Line 22"/>
          <p:cNvSpPr/>
          <p:nvPr/>
        </p:nvSpPr>
        <p:spPr>
          <a:xfrm>
            <a:off x="2100240" y="563868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Line 23"/>
          <p:cNvSpPr/>
          <p:nvPr/>
        </p:nvSpPr>
        <p:spPr>
          <a:xfrm>
            <a:off x="1386000" y="563868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Timberlake LecturePLUS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D162E-845A-42F7-B744-8F85C176789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UPAC Nam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1760" y="1295280"/>
            <a:ext cx="784836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Name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# carbons     Structural Formula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Meth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n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Eth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n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Prop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n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But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n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Pent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n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2" name="Object 5" descr=""/>
          <p:cNvPicPr/>
          <p:nvPr/>
        </p:nvPicPr>
        <p:blipFill>
          <a:blip r:embed="rId1"/>
          <a:stretch/>
        </p:blipFill>
        <p:spPr>
          <a:xfrm>
            <a:off x="6400800" y="1981080"/>
            <a:ext cx="2117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75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Timberlake LecturePLUS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9A42F-8591-467F-B36C-0BB1D4CB18C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1908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UPAC NAM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lnSpc>
                <a:spcPct val="13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Name</a:t>
            </a: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   # carbons     </a:t>
            </a: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Structural Formula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Hex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ne   6                            C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Hept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ne  7                     C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Oct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ne    8               C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Non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ne   9        C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Dec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ne  10  C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Timberlake LecturePLUS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B1816-0E2C-427B-AEA6-9819B9C1BF1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Alk1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 What is the condensed formula fo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    H    H   H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     C    C    C    C     H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    H    H   H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  What is its molecular formula?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.  What is its name?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Line 9"/>
          <p:cNvSpPr/>
          <p:nvPr/>
        </p:nvSpPr>
        <p:spPr>
          <a:xfrm>
            <a:off x="1042920" y="3646440"/>
            <a:ext cx="5335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Line 10"/>
          <p:cNvSpPr/>
          <p:nvPr/>
        </p:nvSpPr>
        <p:spPr>
          <a:xfrm>
            <a:off x="1752480" y="3622680"/>
            <a:ext cx="5335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Line 11"/>
          <p:cNvSpPr/>
          <p:nvPr/>
        </p:nvSpPr>
        <p:spPr>
          <a:xfrm>
            <a:off x="2514600" y="3622680"/>
            <a:ext cx="5335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Line 12"/>
          <p:cNvSpPr/>
          <p:nvPr/>
        </p:nvSpPr>
        <p:spPr>
          <a:xfrm>
            <a:off x="3200400" y="3622680"/>
            <a:ext cx="5335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Line 13"/>
          <p:cNvSpPr/>
          <p:nvPr/>
        </p:nvSpPr>
        <p:spPr>
          <a:xfrm>
            <a:off x="3886200" y="3622680"/>
            <a:ext cx="5335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Line 14"/>
          <p:cNvSpPr/>
          <p:nvPr/>
        </p:nvSpPr>
        <p:spPr>
          <a:xfrm>
            <a:off x="1752480" y="2971800"/>
            <a:ext cx="0" cy="5335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Line 15"/>
          <p:cNvSpPr/>
          <p:nvPr/>
        </p:nvSpPr>
        <p:spPr>
          <a:xfrm>
            <a:off x="1752480" y="3830760"/>
            <a:ext cx="0" cy="5331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Line 16"/>
          <p:cNvSpPr/>
          <p:nvPr/>
        </p:nvSpPr>
        <p:spPr>
          <a:xfrm>
            <a:off x="2438280" y="3830760"/>
            <a:ext cx="0" cy="5331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Line 17"/>
          <p:cNvSpPr/>
          <p:nvPr/>
        </p:nvSpPr>
        <p:spPr>
          <a:xfrm>
            <a:off x="2438280" y="2971800"/>
            <a:ext cx="0" cy="5335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3147840" y="2971800"/>
            <a:ext cx="0" cy="5335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3159000" y="3889440"/>
            <a:ext cx="0" cy="5331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3809880" y="2971800"/>
            <a:ext cx="0" cy="5335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Line 21"/>
          <p:cNvSpPr/>
          <p:nvPr/>
        </p:nvSpPr>
        <p:spPr>
          <a:xfrm>
            <a:off x="3809880" y="3830760"/>
            <a:ext cx="0" cy="5331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1T10:20:14Z</dcterms:created>
  <dc:creator>bjp</dc:creator>
  <dc:description/>
  <dc:language>en-US</dc:language>
  <cp:lastModifiedBy>mais.barakat</cp:lastModifiedBy>
  <cp:lastPrinted>1998-11-08T22:28:26Z</cp:lastPrinted>
  <dcterms:modified xsi:type="dcterms:W3CDTF">2010-11-09T04:32:48Z</dcterms:modified>
  <cp:revision>61</cp:revision>
  <dc:subject/>
  <dc:title>Organic Chemistry</dc:title>
</cp:coreProperties>
</file>